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DFE0-1417-43AE-8386-EFF458FFC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BAD7-5280-4893-867D-15934C98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22E7-5236-429C-B8D0-709D46ED3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0BE8-0B54-405B-B3FD-54E9CE43E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1188-6A6D-4640-9D38-F20F8D667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E0EC-0568-4C30-B436-C490F2F8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0FED-0BAE-4D9C-8CCD-12C318DB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B586-2D06-434B-AC89-F245772B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D4CAC-FDEA-4ABE-9D19-41138C328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F7CC-EFF8-45F0-8CDC-DF79A711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F105-46EC-4EE6-AAFF-F91F299B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A73-0C9F-492E-996D-BFD0A38B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BCD4-B775-47A8-A83E-33AF55F9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ABF0-B343-4C75-B6AA-8362543E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DFEA-0D65-4F5B-AE29-D38BCC9E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4FA7-E25A-4AAF-B1E7-B046940E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5A2F-0D6E-445B-B8D0-80D93EC2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826-47FD-48D8-B5E9-C68568D5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253-6648-442B-89CC-112C5FD5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FAF-3C4E-4779-BEC8-1E1A7BCD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FF6-E9E4-4D89-9625-509CADB0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A71-F5FC-4AE4-8665-260C4C27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5544-B5AF-4850-9C69-A7CB9862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E77-ECA5-41CD-8FB2-C08EB51F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85501-4F79-42EC-AA9D-3C2BF0F5F1D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7AC9-7BC5-475C-BC84-4315F69B547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ath Reference Shee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cavenger Hun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rs. Spence-Dil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215720"/>
            <a:ext cx="39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A bottle contains 0.375 liters of juic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f the following is another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ress 0.375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05840" y="2550960"/>
            <a:ext cx="1093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/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00040" y="1161360"/>
            <a:ext cx="63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he top ten scores in a bowling tournament are listed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590920"/>
            <a:ext cx="4724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lain" startAt="28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       279        288        2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8            250        298        255        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3886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uct a stem and leaf plot to correctly represent these sc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833480" y="1371600"/>
          <a:ext cx="5477040" cy="800280"/>
        </p:xfrm>
        <a:graphic>
          <a:graphicData uri="http://schemas.openxmlformats.org/drawingml/2006/table">
            <a:tbl>
              <a:tblPr/>
              <a:tblGrid>
                <a:gridCol w="5477040"/>
              </a:tblGrid>
              <a:tr h="85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1. Vineet answered 20 out of 25 questions correctly on his last mathematics test. What percent is equivalent to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   ?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895480" y="3276720"/>
          <a:ext cx="208080" cy="214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6" name="" descr="20/25"/>
          <p:cNvPicPr/>
          <p:nvPr/>
        </p:nvPicPr>
        <p:blipFill>
          <a:blip r:embed="rId1"/>
          <a:stretch/>
        </p:blipFill>
        <p:spPr>
          <a:xfrm>
            <a:off x="6629400" y="1676520"/>
            <a:ext cx="142920" cy="2854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828800" y="2819520"/>
            <a:ext cx="4800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71600" y="53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1852560"/>
          <a:ext cx="2324160" cy="2295720"/>
        </p:xfrm>
        <a:graphic>
          <a:graphicData uri="http://schemas.openxmlformats.org/drawingml/2006/table">
            <a:tbl>
              <a:tblPr/>
              <a:tblGrid>
                <a:gridCol w="2324160"/>
              </a:tblGrid>
              <a:tr h="229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276720" y="1828800"/>
          <a:ext cx="2133360" cy="180504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nim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aximum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eight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in ounce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ee Hummingbi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           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Kitti’s Hog-nosed B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           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ygmy Mou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           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ygmy Shre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              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3505320" y="4419720"/>
          <a:ext cx="1709640" cy="857160"/>
        </p:xfrm>
        <a:graphic>
          <a:graphicData uri="http://schemas.openxmlformats.org/drawingml/2006/table">
            <a:tbl>
              <a:tblPr/>
              <a:tblGrid>
                <a:gridCol w="216000"/>
                <a:gridCol w="285840"/>
                <a:gridCol w="120780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8, 0.07, 0.09, 0.0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7, 0.09, 0.28, 0.0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28, 0.056, 0.07, 0.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.056, 0.07, 0.09, 0.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2057400" y="3808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The table below shows the maximum weights of some of the smallest living animals in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 Weigh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Some Small Animal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3809880"/>
            <a:ext cx="426708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shows the numbers in the table in order from least to greate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1444680" y="1295280"/>
          <a:ext cx="6254640" cy="2971080"/>
        </p:xfrm>
        <a:graphic>
          <a:graphicData uri="http://schemas.openxmlformats.org/drawingml/2006/table">
            <a:tbl>
              <a:tblPr/>
              <a:tblGrid>
                <a:gridCol w="647640"/>
                <a:gridCol w="5391360"/>
                <a:gridCol w="216000"/>
              </a:tblGrid>
              <a:tr h="1116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3. An automobile repair shop takes approximately 0.4 hour to change the oil in a car. What is the total number of minutes in 0.4 hour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5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828800" y="2362320"/>
          <a:ext cx="4343040" cy="1777680"/>
        </p:xfrm>
        <a:graphic>
          <a:graphicData uri="http://schemas.openxmlformats.org/drawingml/2006/table">
            <a:tbl>
              <a:tblPr/>
              <a:tblGrid>
                <a:gridCol w="759600"/>
                <a:gridCol w="1050120"/>
                <a:gridCol w="2533320"/>
              </a:tblGrid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0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5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4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 minu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951280" y="1371600"/>
          <a:ext cx="3241440" cy="941400"/>
        </p:xfrm>
        <a:graphic>
          <a:graphicData uri="http://schemas.openxmlformats.org/drawingml/2006/table">
            <a:tbl>
              <a:tblPr/>
              <a:tblGrid>
                <a:gridCol w="324144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4.   If         = 4 and        = 5, what is the value of the expression below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(              ) + 6(         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" descr="a triangle"/>
          <p:cNvPicPr/>
          <p:nvPr/>
        </p:nvPicPr>
        <p:blipFill>
          <a:blip r:embed="rId1"/>
          <a:stretch/>
        </p:blipFill>
        <p:spPr>
          <a:xfrm>
            <a:off x="3657600" y="1447920"/>
            <a:ext cx="133200" cy="123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a box"/>
          <p:cNvPicPr/>
          <p:nvPr/>
        </p:nvPicPr>
        <p:blipFill>
          <a:blip r:embed="rId2"/>
          <a:stretch/>
        </p:blipFill>
        <p:spPr>
          <a:xfrm>
            <a:off x="4724280" y="1523880"/>
            <a:ext cx="95400" cy="95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a triangle"/>
          <p:cNvPicPr/>
          <p:nvPr/>
        </p:nvPicPr>
        <p:blipFill>
          <a:blip r:embed="rId3"/>
          <a:stretch/>
        </p:blipFill>
        <p:spPr>
          <a:xfrm>
            <a:off x="4114800" y="2133720"/>
            <a:ext cx="133200" cy="123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a box"/>
          <p:cNvPicPr/>
          <p:nvPr/>
        </p:nvPicPr>
        <p:blipFill>
          <a:blip r:embed="rId4"/>
          <a:stretch/>
        </p:blipFill>
        <p:spPr>
          <a:xfrm>
            <a:off x="5105520" y="2133720"/>
            <a:ext cx="95040" cy="95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438280" y="2895480"/>
            <a:ext cx="4876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685800"/>
            <a:ext cx="914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15. The table below shows the low temperatures of four cities on one winter nigh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Low Temperatures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Georgia"/>
              </a:rPr>
              <a:t>Four Cities One Night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0" y="2246400"/>
          <a:ext cx="2432160" cy="1508040"/>
        </p:xfrm>
        <a:graphic>
          <a:graphicData uri="http://schemas.openxmlformats.org/drawingml/2006/table">
            <a:tbl>
              <a:tblPr/>
              <a:tblGrid>
                <a:gridCol w="243216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581280" y="1981080"/>
          <a:ext cx="2241720" cy="1443240"/>
        </p:xfrm>
        <a:graphic>
          <a:graphicData uri="http://schemas.openxmlformats.org/drawingml/2006/table">
            <a:tbl>
              <a:tblPr/>
              <a:tblGrid>
                <a:gridCol w="995400"/>
                <a:gridCol w="1246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emper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o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°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w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°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pring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−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°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orce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         −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°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4038480" y="4191120"/>
          <a:ext cx="1828800" cy="1092240"/>
        </p:xfrm>
        <a:graphic>
          <a:graphicData uri="http://schemas.openxmlformats.org/drawingml/2006/table">
            <a:tbl>
              <a:tblPr/>
              <a:tblGrid>
                <a:gridCol w="322560"/>
                <a:gridCol w="446040"/>
                <a:gridCol w="10602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os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owe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pringf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orces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2590920" y="3809880"/>
            <a:ext cx="4190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ity had the lowest temperature that n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22680" y="2835000"/>
            <a:ext cx="549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  What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kes the equation below tr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1 =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92240"/>
            <a:ext cx="82310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Sarah has the following items in her book ba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red 12-inch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green 12-inch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black 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blue 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urple 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rah will randomly select one 12-inch ruler and one p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ee diagram below shows all of the possible combinations of one 12-inch ruler and one pen that Sarah could sel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a tree diabram"/>
          <p:cNvPicPr/>
          <p:nvPr/>
        </p:nvPicPr>
        <p:blipFill>
          <a:blip r:embed="rId1"/>
          <a:stretch/>
        </p:blipFill>
        <p:spPr>
          <a:xfrm>
            <a:off x="3962520" y="2590920"/>
            <a:ext cx="1209600" cy="2152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97000" y="5104800"/>
            <a:ext cx="699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probability that Sarah will select a green 12-inch ruler and either a black or a purple 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5638680"/>
            <a:ext cx="7467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1/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graph"/>
          <p:cNvPicPr/>
          <p:nvPr/>
        </p:nvPicPr>
        <p:blipFill>
          <a:blip r:embed="rId1"/>
          <a:stretch/>
        </p:blipFill>
        <p:spPr>
          <a:xfrm>
            <a:off x="3200400" y="1143000"/>
            <a:ext cx="2543040" cy="255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483000" y="3962520"/>
          <a:ext cx="2168640" cy="2187360"/>
        </p:xfrm>
        <a:graphic>
          <a:graphicData uri="http://schemas.openxmlformats.org/drawingml/2006/table">
            <a:tbl>
              <a:tblPr/>
              <a:tblGrid>
                <a:gridCol w="216000"/>
                <a:gridCol w="286200"/>
                <a:gridCol w="166644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 value of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creases by 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 value of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decreases by 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 value of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ncreases by         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he value of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decreases by         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" descr="1/3 fraction"/>
          <p:cNvPicPr/>
          <p:nvPr/>
        </p:nvPicPr>
        <p:blipFill>
          <a:blip r:embed="rId2"/>
          <a:stretch/>
        </p:blipFill>
        <p:spPr>
          <a:xfrm>
            <a:off x="5334120" y="4191120"/>
            <a:ext cx="142920" cy="28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1/3 fraction"/>
          <p:cNvPicPr/>
          <p:nvPr/>
        </p:nvPicPr>
        <p:blipFill>
          <a:blip r:embed="rId3"/>
          <a:stretch/>
        </p:blipFill>
        <p:spPr>
          <a:xfrm>
            <a:off x="5334120" y="3330720"/>
            <a:ext cx="142920" cy="2854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363760" y="457200"/>
            <a:ext cx="44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As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reases from 0 to 1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hange in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236600" y="990720"/>
          <a:ext cx="6670800" cy="1353960"/>
        </p:xfrm>
        <a:graphic>
          <a:graphicData uri="http://schemas.openxmlformats.org/drawingml/2006/table">
            <a:tbl>
              <a:tblPr/>
              <a:tblGrid>
                <a:gridCol w="6238800"/>
                <a:gridCol w="216000"/>
                <a:gridCol w="216000"/>
              </a:tblGrid>
              <a:tr h="8715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.   All of the sweaters in a store are on sale for 10% less than the regular price. What is the sale price of a sweater with a regular price of $38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54760" y="1066320"/>
            <a:ext cx="820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5. The list below shows the ages of the students in Mario’s computer cla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09680" y="2209680"/>
          <a:ext cx="4648320" cy="319320"/>
        </p:xfrm>
        <a:graphic>
          <a:graphicData uri="http://schemas.openxmlformats.org/drawingml/2006/table">
            <a:tbl>
              <a:tblPr/>
              <a:tblGrid>
                <a:gridCol w="4648320"/>
              </a:tblGrid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5,   13,   12,   14,   12,   14,   15,   13,   14,   16,   1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680400" y="3688920"/>
            <a:ext cx="56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What is the range of the ages of the students in the clas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09480" y="364320"/>
            <a:ext cx="82868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6. Copy the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axis and 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-axis shown below onto the grid in your Student Answer Bookl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9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1920" y="2895480"/>
          <a:ext cx="6373800" cy="3176280"/>
        </p:xfrm>
        <a:graphic>
          <a:graphicData uri="http://schemas.openxmlformats.org/drawingml/2006/table">
            <a:tbl>
              <a:tblPr/>
              <a:tblGrid>
                <a:gridCol w="268200"/>
                <a:gridCol w="6105600"/>
              </a:tblGrid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lot and label poi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4, 6) and poi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Q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4, 2) on your gri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ine segme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Q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is one side of a rectangle. On your grid, draw rectangle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QR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with a length of 4 units and a width of 2 units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Label poi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d poi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</a:t>
                      </a:r>
                      <a:br>
                        <a:rPr sz="1300"/>
                      </a:b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e the coordinates of poi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and point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n your grid, draw the two diagonals of rectangle </a:t>
                      </a:r>
                      <a:r>
                        <a:rPr b="0" i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QRS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. What are the coordinates of the point where the two diagonals intersect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4" name="" descr="x and y grid"/>
          <p:cNvPicPr/>
          <p:nvPr/>
        </p:nvPicPr>
        <p:blipFill>
          <a:blip r:embed="rId1"/>
          <a:stretch/>
        </p:blipFill>
        <p:spPr>
          <a:xfrm>
            <a:off x="3657600" y="838080"/>
            <a:ext cx="1428840" cy="150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286000" y="838080"/>
          <a:ext cx="4495320" cy="1336680"/>
        </p:xfrm>
        <a:graphic>
          <a:graphicData uri="http://schemas.openxmlformats.org/drawingml/2006/table">
            <a:tbl>
              <a:tblPr/>
              <a:tblGrid>
                <a:gridCol w="4495320"/>
              </a:tblGrid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.      Horseshoe Falls has an average water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flow of 600,000 gallons per second.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hat is the average water flow of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orseshoe Falls in gallons per </a:t>
                      </a: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inute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?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533760" y="3290760"/>
          <a:ext cx="2081160" cy="1949400"/>
        </p:xfrm>
        <a:graphic>
          <a:graphicData uri="http://schemas.openxmlformats.org/drawingml/2006/table">
            <a:tbl>
              <a:tblPr/>
              <a:tblGrid>
                <a:gridCol w="216000"/>
                <a:gridCol w="286200"/>
                <a:gridCol w="157896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,000 gallons per minu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,000 gallons per minu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,600,000 gallons per minu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36,000,000 gallons per minu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467160" y="914400"/>
          <a:ext cx="2476440" cy="4027320"/>
        </p:xfrm>
        <a:graphic>
          <a:graphicData uri="http://schemas.openxmlformats.org/drawingml/2006/table">
            <a:tbl>
              <a:tblPr/>
              <a:tblGrid>
                <a:gridCol w="225360"/>
                <a:gridCol w="1806480"/>
                <a:gridCol w="444600"/>
              </a:tblGrid>
              <a:tr h="2225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. Chris was looking for information o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space exploration. She got approximately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4,800,000 results when she did an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nternet search. What is 54,800,000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written in scientific notatio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0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692520" y="3352680"/>
          <a:ext cx="2326680" cy="1599840"/>
        </p:xfrm>
        <a:graphic>
          <a:graphicData uri="http://schemas.openxmlformats.org/drawingml/2006/table">
            <a:tbl>
              <a:tblPr/>
              <a:tblGrid>
                <a:gridCol w="426240"/>
                <a:gridCol w="588960"/>
                <a:gridCol w="131148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48 ×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5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48 ×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48 ×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5.48 × 10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Georgia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1:42:00Z</dcterms:created>
  <dc:creator>Barnstable Middle School</dc:creator>
  <dc:description/>
  <dc:language>en-US</dc:language>
  <cp:lastModifiedBy>Barnstable Middle School</cp:lastModifiedBy>
  <dcterms:modified xsi:type="dcterms:W3CDTF">2009-04-13T16:26:25Z</dcterms:modified>
  <cp:revision>7</cp:revision>
  <dc:subject/>
  <dc:title>Slide 1</dc:title>
</cp:coreProperties>
</file>